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090-A89C-4DBF-9BD2-2333A8E1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F0C-8F4D-4C6A-A207-A332D07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04A-75E5-4AAE-A224-403D2ECD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CEC-D258-46F0-9F9C-74CEE9D8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D2C0-FA3D-4E5D-A7CA-B0574AFF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9783-CFFB-45AF-889B-58D7081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B191-0B60-44D2-A46A-4ACF6D0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43AD-F909-4C97-ABE7-352C288A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9E2-8A15-4428-AFD4-734079CA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0B0B-7847-4568-A6AB-D5E1D2A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0539-4920-4240-85C1-874B699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872-E72D-4819-99E2-F21DA440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5A7D-66B2-4057-B144-D2DA5A6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E8A-85A3-4270-BEF7-13093D4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52D-6433-4B1E-813A-76EB2A4E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C64-F958-49DC-B893-8FE1FFFC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8194-2A94-42F5-952A-917B5A18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C22-32BE-4704-9770-A796863D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15D-BBEE-4C2C-B156-5B1ECF31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0BB-228D-4B77-9490-EC02E18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AFC-9947-454D-95AA-5E0FF94E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5DB-4982-455A-9EC3-1FA81129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E19-53A3-497C-9E97-9411D9F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97A-00F8-4082-8EBF-595D302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4BA2-E58E-4D6B-A86C-D182C7B7B2B5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1D32-8081-4C63-8CE6-5F4C2EFC308A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nstructional/6-8/General 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eChalk Digital File Locker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fter we select the file we would like to upload, we can it listed in the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he “Upload” button to add it to your digital file locker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4095720"/>
            <a:ext cx="8510400" cy="266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6200640"/>
            <a:ext cx="914400" cy="60984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124320" y="603576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that we have clicked “Upload”, we can see the file in 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48470" b="0"/>
          <a:stretch/>
        </p:blipFill>
        <p:spPr>
          <a:xfrm>
            <a:off x="1828800" y="3429000"/>
            <a:ext cx="4699080" cy="252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4819680" y="4575240"/>
            <a:ext cx="220968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av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“Save” button allows us to view a file that is already in 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we must select the file we want to sa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64168" b="23047"/>
          <a:stretch/>
        </p:blipFill>
        <p:spPr>
          <a:xfrm>
            <a:off x="2133720" y="3881520"/>
            <a:ext cx="4495680" cy="2544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16080" y="5772240"/>
            <a:ext cx="838440" cy="53316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49320" y="5403960"/>
            <a:ext cx="129528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av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ce we click the “Save” button, the file download window will ope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re are three options for saving our file: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can view it in a new web brows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it in the original applicati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ownload and save the file on our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884" t="1513" r="884" b="0"/>
          <a:stretch/>
        </p:blipFill>
        <p:spPr>
          <a:xfrm>
            <a:off x="228600" y="0"/>
            <a:ext cx="86868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let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select the file that needs to be deleted by clicking the box next to the file nam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xt, click the “Delete” butt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67502" b="23318"/>
          <a:stretch/>
        </p:blipFill>
        <p:spPr>
          <a:xfrm>
            <a:off x="3117960" y="4013280"/>
            <a:ext cx="4572000" cy="284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6095880"/>
            <a:ext cx="914400" cy="68580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571500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the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we would like to send the file to someone, we can select the file and click “Send Email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67502" b="23318"/>
          <a:stretch/>
        </p:blipFill>
        <p:spPr>
          <a:xfrm>
            <a:off x="3117960" y="3695760"/>
            <a:ext cx="4572000" cy="284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27600" y="5762520"/>
            <a:ext cx="1295640" cy="76212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39748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fter we click “Send Email”, a new email will open and our document will already be attach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can send our email with the file attachment like we learned in our eChalk email less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530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40" y="2577960"/>
            <a:ext cx="6842160" cy="60984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practice using each of the features in our Digital File Locker together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dd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lete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nd a file as an email attach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manage our files using the Digital File Locker in eChalk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each have time to practice using 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dd at least 2 of your class files to your digital file locker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actice sending a file in an email to your assigned partn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you receive the file from your partner, save it to your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oose one file and delete it from y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manage our files in eChalk.  We know how to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dd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e a file to our compu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lete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nd a file as an attachmen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the eChalk Digital File Locker help students and teachers  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with their work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 already learned how to use eChalk email to communicate with oth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are going to learn how to manage our files using our eChalk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igital File Lock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ur digital file locker is located within the “My Account” tab in eChalk.  They are kept in a folder called “Files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280" y="1600200"/>
            <a:ext cx="870120" cy="30492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9040" y="2101680"/>
            <a:ext cx="259056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igital File Lock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ce we are in our Digital File Locker, we can see our files listed, and use the buttons to Add, Save, Delete, and Send an Emai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504960" y="2117880"/>
            <a:ext cx="190476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7640" y="2314440"/>
            <a:ext cx="2438280" cy="45720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1495440"/>
            <a:ext cx="2438640" cy="45720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 add a file, click the “Add” button, and the file selection window will open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he “Choose File” butt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561160" cy="2679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51200" y="5423040"/>
            <a:ext cx="1523880" cy="53316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1T20:35:28Z</dcterms:modified>
  <cp:revision>21</cp:revision>
  <dc:subject/>
  <dc:title>Workshop Title</dc:title>
</cp:coreProperties>
</file>